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52C65E-2B10-4AC6-9DB3-49CE39C9EF2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230DF7-619A-42C9-B62D-A1DECE406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83C92A-F10B-48BB-BB5F-5C4AF33C64D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E927-D0F9-47B8-B5D4-D508C450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FC9D-86E7-4244-AC8A-E558DEF5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0690-57DE-40CD-841D-BFCFDFE2C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545A-AD94-4B45-84B5-DFDFAA2F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82B4-3CCD-4954-B34B-E2E60B49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942E-EB4E-4904-A093-FE902006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28B4-C41A-4245-92BE-1F0DE0F8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A321-463D-457C-B5B4-A048E033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7C72-8843-4848-9B5C-A19C30BD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3891-77C7-4C93-9C2E-5C466B47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E839-0DD6-4EE8-A8FA-9E653D0D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5013-775A-48C7-86A6-6331B43C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B10229-1023-4CDD-80CF-D8583AB1CFAE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7AB325-70A2-4359-8CA5-D16E28F6CB2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Parts of Speech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Garamond"/>
                <a:ea typeface="Garamond"/>
              </a:rPr>
              <a:t>American Li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  <a:ea typeface="Garamond"/>
              </a:rPr>
              <a:t>Noun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Names a person, place, or 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Person: Jimmy, farmer, Mr. Jon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Place: classroom, Utah, deser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Subcategories of thing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Visible things: dog, flowe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Ideas: democracy, fait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Actions: labor, competition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Conditions: happiness, lov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Qualities: intelligence, respec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Concrete and Abstract 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Concret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Names something you can see, touch, taste, hear, or smel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App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Building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Abstra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Names something you cannot perceive through any of your five sens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Faith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Fam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Lov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1790640" y="4683240"/>
            <a:ext cx="1143000" cy="11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Singular and Plural 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Singular nouns name one person, place, or th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Example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Garamond"/>
              </a:rPr>
              <a:t>poster, flag, pe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Plural nouns name more than one person, place, or th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Most plural nouns are formed by adding –s or –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Some are formed in another wa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Examp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062720" indent="-212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Garamond"/>
              </a:rPr>
              <a:t>posters, flags, pe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062720" indent="-2124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Garamond"/>
              </a:rPr>
              <a:t>leaf-leaves, mouse-mic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Collective 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Names a group of people or thing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clas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arm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bush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Team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Famil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herd (like elk!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" name="Content Placeholder 4" descr=""/>
          <p:cNvPicPr/>
          <p:nvPr/>
        </p:nvPicPr>
        <p:blipFill>
          <a:blip r:embed="rId1"/>
          <a:srcRect l="0" t="-34672" r="0" b="-3467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Compound 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Noun made up of two or more words functioning as a single uni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May be written as separate words, hyphenated words, or combined wor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check a dictionary if not sure of how a word is spelled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Separated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life preserver, coffee mu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Hyphenated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son-in-law, self-govern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Combined: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mockingbird, bathtub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Common and Proper 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Common noun names any one of a class of people, places, or thing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actress, school, book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Proper noun names a specific person, place, or th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Proper nouns are capitalized while common nouns are no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062720" indent="-2124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  <a:ea typeface="Garamond"/>
              </a:rPr>
              <a:t>Reese Witherspoon, Peoria Notre Dame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Wick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Links for 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s a Noun?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un Paragrap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oun quiz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4:37:37Z</dcterms:created>
  <dc:creator>ndadmin</dc:creator>
  <dc:description/>
  <dc:language>en-US</dc:language>
  <cp:lastModifiedBy>Katherine Hausauer</cp:lastModifiedBy>
  <cp:lastPrinted>2008-10-27T18:26:57Z</cp:lastPrinted>
  <dcterms:modified xsi:type="dcterms:W3CDTF">2010-12-07T20:41:00Z</dcterms:modified>
  <cp:revision>9</cp:revision>
  <dc:subject/>
  <dc:title>Parts of Speech American Lit</dc:title>
</cp:coreProperties>
</file>